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A506C-71F5-41D4-8B24-6701C5655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never know where a contact will take us.  It is a useful tool to draw your own web of who you know and how they are connected to others you want to reach at a potential job or position of influence.  One contact can always lead to another.  You can research individuals online or link to them through Linked In or Facebook to learn who else they might know.  It is perfectly OK to ask someone you know to introduce you to someone else they know!</a:t>
            </a:r>
            <a:endParaRPr b="0" lang="en-US" sz="11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821A1-1CFC-4DC9-BC75-CB7A23B59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3F4D-AF70-4052-8ED6-4F8E6643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E815A-4515-4F9A-9BB2-B0857F59F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17F8E-D2CC-4B94-A8B6-B0BB32A91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AAE87-D2D1-49CC-B091-0A331E51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87E0-0C4B-4208-BBED-BADDEF85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CE611-C1DF-4D92-844C-4AF2E544F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D960-1461-4C6A-BAA2-CD39E89F3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7385A-C93F-4B80-9747-669A1165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55B3-7F60-4E52-856D-E1355F08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115D-6657-4AA9-A22A-FAE3E41A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6AFD-3653-46CB-9702-89AD5705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901C-DC27-4B6D-AB06-7DE2C9C76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9F6F9-E8A9-4CDF-A123-4EFCEA609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876320" y="1595520"/>
            <a:ext cx="5556240" cy="5103720"/>
          </a:xfrm>
          <a:prstGeom prst="rect">
            <a:avLst/>
          </a:prstGeom>
          <a:ln w="0">
            <a:noFill/>
          </a:ln>
        </p:spPr>
      </p:pic>
      <p:sp>
        <p:nvSpPr>
          <p:cNvPr id="49" name="TextBox 4"/>
          <p:cNvSpPr/>
          <p:nvPr/>
        </p:nvSpPr>
        <p:spPr>
          <a:xfrm>
            <a:off x="0" y="142920"/>
            <a:ext cx="9144000" cy="1133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mbria"/>
              </a:rPr>
              <a:t>Networking Web</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800" spc="-1" strike="noStrike">
                <a:solidFill>
                  <a:srgbClr val="ffffff"/>
                </a:solidFill>
                <a:latin typeface="Cambria"/>
              </a:rPr>
              <a:t>شبكه التشبيك</a:t>
            </a:r>
            <a:r>
              <a:rPr b="0" lang="en-US" sz="2800" spc="-1" strike="noStrike">
                <a:solidFill>
                  <a:srgbClr val="ffffff"/>
                </a:solidFill>
                <a:latin typeface="Cambria"/>
              </a:rPr>
              <a:t>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1160280"/>
          </a:xfrm>
          <a:prstGeom prst="rect">
            <a:avLst/>
          </a:prstGeom>
          <a:solidFill>
            <a:srgbClr val="4f81bd"/>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ea typeface="Cambria"/>
              </a:rPr>
              <a:t>Fundamentals of Networking</a:t>
            </a:r>
            <a:br>
              <a:rPr sz="4000"/>
            </a:br>
            <a:r>
              <a:rPr b="0" lang="ar-KW" sz="4000" spc="-1" strike="noStrike">
                <a:solidFill>
                  <a:srgbClr val="ffffff"/>
                </a:solidFill>
                <a:latin typeface="Cambria"/>
                <a:cs typeface="Cambria"/>
              </a:rPr>
              <a:t>اساسيات التشبيك</a:t>
            </a:r>
            <a:r>
              <a:rPr b="0" lang="en-US" sz="4000" spc="-1" strike="noStrike">
                <a:solidFill>
                  <a:srgbClr val="ffffff"/>
                </a:solidFill>
                <a:latin typeface="Cambria"/>
                <a:ea typeface="Cambria"/>
              </a:rPr>
              <a:t>	</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ea typeface="Cambria"/>
              </a:rPr>
              <a:t>Manage your contacts in a well-organized fashion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000" spc="-1" strike="noStrike">
                <a:solidFill>
                  <a:srgbClr val="000000"/>
                </a:solidFill>
                <a:latin typeface="Cambria"/>
                <a:cs typeface="Cambria"/>
              </a:rPr>
              <a:t>رتبي قائمه معارفك بتنظيم</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ea typeface="Cambria"/>
              </a:rPr>
              <a:t>Make notes on the back of a business card after meeting someone and be certain to follow u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000" spc="-1" strike="noStrike">
                <a:solidFill>
                  <a:srgbClr val="000000"/>
                </a:solidFill>
                <a:latin typeface="Cambria"/>
                <a:cs typeface="Cambria"/>
              </a:rPr>
              <a:t>اكتبي ملاحظه على خلف كرت الاشخاص والتزمي بالمتابعه</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ea typeface="Cambria"/>
              </a:rPr>
              <a:t>Keep in touch with your network via email or social media upda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000" spc="-1" strike="noStrike">
                <a:solidFill>
                  <a:srgbClr val="000000"/>
                </a:solidFill>
                <a:latin typeface="Cambria"/>
                <a:cs typeface="Cambria"/>
              </a:rPr>
              <a:t>ابقي على اتصال مع شبكه معارفك خلال البريد الالكتروني او وسائل الاعلام الاجتماعيه</a:t>
            </a:r>
            <a:r>
              <a:rPr b="0" lang="ar-KW" sz="2000" spc="-1" strike="noStrike">
                <a:solidFill>
                  <a:srgbClr val="000000"/>
                </a:solidFill>
                <a:latin typeface="Cambria"/>
                <a:ea typeface="Cambri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ea typeface="Cambria"/>
              </a:rPr>
              <a:t>Be nice to everyone and never burn brid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000" spc="-1" strike="noStrike">
                <a:solidFill>
                  <a:srgbClr val="000000"/>
                </a:solidFill>
                <a:latin typeface="Cambria"/>
                <a:cs typeface="Cambria"/>
              </a:rPr>
              <a:t>كوني لطيفه مع الجميع ولاتقطعي علاقات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7:10:22Z</dcterms:created>
  <dc:creator>Caitlin Bertsch</dc:creator>
  <dc:description/>
  <dc:language>en-US</dc:language>
  <cp:lastModifiedBy>Intern-Mena-1</cp:lastModifiedBy>
  <dcterms:modified xsi:type="dcterms:W3CDTF">2011-10-18T13:42:07Z</dcterms:modified>
  <cp:revision>7</cp:revision>
  <dc:subject/>
  <dc:title>Slide 1</dc:title>
</cp:coreProperties>
</file>